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0BF5-7E74-4CEE-8DE0-6E0252855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DCBC-DFB9-4D08-82AE-AA8CDDB9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1A3C-BF92-42E5-BAEE-76BE49AAC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CE66-5259-486D-9A5C-0331C4DA1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6955-1B15-41F3-B33F-8645899FC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DF-3A7E-42D8-A410-3813128C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C22B-A129-47A2-8066-53D8DD14B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E605-4FBE-4C0B-BC59-BF38723D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588-E42B-47D7-A140-DD88B029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0576-EAB5-4565-BEE0-E9FF03D4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7728-C7E7-45A3-B2CF-34C376DA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A4FB-A0FB-43E4-9C0F-0735DBB2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862E-28F3-4036-BE49-7EE4055A23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5740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66ff"/>
              </a:gs>
              <a:gs pos="100000">
                <a:srgbClr val="e7bb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dir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038480" y="838080"/>
            <a:ext cx="1371600" cy="609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a3c2ff"/>
              </a:gs>
              <a:gs pos="100000">
                <a:srgbClr val="dfe9fe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letTestC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457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4572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begin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320" y="16002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16002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XXX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9907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68580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2286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1981080"/>
            <a:ext cx="106704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038480" y="1752480"/>
            <a:ext cx="13716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724280" y="1447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147636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42864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581280" y="12952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447560" y="1219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1905120"/>
            <a:ext cx="106668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1828800"/>
            <a:ext cx="106668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00"/>
              </a:gs>
              <a:gs pos="100000">
                <a:srgbClr val="fee5c1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80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67080" y="152280"/>
            <a:ext cx="1067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tUp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stXXX(),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earDown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2438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00200" y="12952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6:11:12Z</dcterms:created>
  <dc:creator>Vincent Massol</dc:creator>
  <dc:description/>
  <dc:language>en-US</dc:language>
  <cp:lastModifiedBy>Vincent Massol</cp:lastModifiedBy>
  <dcterms:modified xsi:type="dcterms:W3CDTF">2001-03-07T10:31:39Z</dcterms:modified>
  <cp:revision>5</cp:revision>
  <dc:subject/>
  <dc:title>Présentation PowerPoint</dc:title>
</cp:coreProperties>
</file>