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FCD-0CAE-48C4-92D6-EEB03CAA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DA22-3BE3-4587-8996-BBA94F2CF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6AB0-09B9-47A0-9562-8433022C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CA6F-252C-4C7A-831D-EA22A4D6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4E5-1D70-415E-BCA3-C03C0DE15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AFD7-2F47-441B-A48C-48E60C46B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5F21-163D-4E04-9D4F-14AED0DCE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90F5-79FA-4B5E-8780-F6DFFDAA1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0273-5B7E-4B9E-94A2-3385DCE1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43B9-136D-4952-8F40-D96320A80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F495-45E1-47F8-A815-4B780753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571-5EBE-4FDE-9B23-CBD3C4E54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9CEC4-2398-41D6-B313-4A761E33E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5335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V="1">
            <a:off x="1447920" y="76176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6094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429000" y="9907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05320" y="9144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9880" y="13716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9144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52480" y="91440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3880" y="14763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219320"/>
            <a:ext cx="1371600" cy="6094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J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137160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 flipV="1">
            <a:off x="1447560" y="1218960"/>
            <a:ext cx="609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52480" y="121932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16:01Z</dcterms:modified>
  <cp:revision>5</cp:revision>
  <dc:subject/>
  <dc:title>Présentation PowerPoint</dc:title>
</cp:coreProperties>
</file>