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20D2-AED8-44F7-8432-1DE386595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B6BB-20FA-4885-9BB0-85B42F0B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1030-2136-4EAE-80D0-4322297EF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66CA-D09D-4585-9076-0EEB1565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441-F8CC-417C-93EF-8EAA227BB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7430-5765-444C-BE5A-D833F434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F72-ED6D-416B-8363-BA9D7A5A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493-5AA8-4A09-AA63-75B5466E7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B464-BE54-4D4F-A6DF-B28B11076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5FDF-2DB4-4822-87AC-030322C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0995-9C3F-469E-B0A0-49EF38A32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A9BD-E9C7-4285-80F3-1118E314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B26F2-3726-43E2-A746-B93EBA743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5238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6858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0972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7:06Z</dcterms:modified>
  <cp:revision>4</cp:revision>
  <dc:subject/>
  <dc:title>Présentation PowerPoint</dc:title>
</cp:coreProperties>
</file>