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79B-3BD2-4C45-9ECF-FF0AC89E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1D19-B131-493B-BF7C-00118C069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7609-1E41-4A4C-AFE5-C54EAFC40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0A03-B8B3-4034-A5A0-4FFE7E049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77B3-46D2-44BF-A826-884FCDC53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7EE-8476-4FA9-BA38-3E590278F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630-1231-4812-BE78-9A33D8A5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18E3-3420-4D53-918E-78D238930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DDD4-8A61-456D-938B-0652F0FCF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87D2-DE84-48ED-8315-E2003556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CCD5-FCA7-4883-8E78-9C968B9AD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51DF0-8BB9-47D5-A2EE-3F0543B4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4CC6B-410D-4B9B-AE4D-8B83DF411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114800"/>
            <a:ext cx="2666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6094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nilla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1295280"/>
            <a:ext cx="1143000" cy="6098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l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057400" y="1295280"/>
            <a:ext cx="1143000" cy="609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agli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86200" y="4572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86200" y="76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609480"/>
            <a:ext cx="1143000" cy="60984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J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1295280"/>
            <a:ext cx="11430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nilla Ja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352680" y="12193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2514600"/>
            <a:ext cx="26668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ff"/>
              </a:gs>
              <a:gs pos="100000">
                <a:srgbClr val="c19a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981080" y="2057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048120" y="1981080"/>
            <a:ext cx="9144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28600" y="3352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26668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3526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7400" y="2666880"/>
            <a:ext cx="1143000" cy="609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elo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65760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19720" y="2590920"/>
            <a:ext cx="45720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259092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19720" y="3200400"/>
            <a:ext cx="457200" cy="30492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76920" y="3048120"/>
            <a:ext cx="152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Work in progress. Soon to be available in Cac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419720" y="3809880"/>
            <a:ext cx="45720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76920" y="380988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Cactus 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4T06:50:50Z</dcterms:created>
  <dc:creator>Vincent Massol</dc:creator>
  <dc:description/>
  <dc:language>en-US</dc:language>
  <cp:lastModifiedBy>Vincent Massol</cp:lastModifiedBy>
  <dcterms:modified xsi:type="dcterms:W3CDTF">2001-04-14T07:49:14Z</dcterms:modified>
  <cp:revision>8</cp:revision>
  <dc:subject/>
  <dc:title>Présentation PowerPoint</dc:title>
</cp:coreProperties>
</file>