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C76-9831-4B4E-A2A4-3A86F251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654-64A1-4962-865C-9E0608FC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2B9-A74B-435F-A96D-EAEDFDEC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97B-BBB7-4729-9FD8-8B28EB6E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FB7-DDE6-4BC7-B930-D3760A1C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5E2-9774-4B09-952D-EE5A77A0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C86-7941-45C4-8FDB-DE415879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BDA-E318-43AD-8D2B-9B5D8FB8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A96-7E22-4DFB-A633-5EB0523C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927-3F5C-448F-B72F-EB40C843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21F-4CF9-4462-94AB-299D5D17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EC9-16C2-4C3D-8C72-4196152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7AB0-79CD-4CF7-87B2-47CE2C2EF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31:39Z</dcterms:modified>
  <cp:revision>5</cp:revision>
  <dc:subject/>
  <dc:title>Présentation PowerPoint</dc:title>
</cp:coreProperties>
</file>