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D9D3-6895-4516-9E73-05A944D2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F8E2-C11C-4896-BFB0-10B5F0AF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6AFD-32DC-421F-9A78-73224B2BF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0062-0F35-450B-B642-B144B8663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FFA7-DDCD-40D5-BA76-F6CFC1C6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523A-C966-4113-9B6C-63C03F43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D7F3-7DEC-44EA-A9C4-6B5017E7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BA95-B525-40C8-A31D-5A813482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7610-14A0-4872-8479-213BDE5D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DDD0-3C06-4B14-B25C-E1ECA1B4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004A-3F2E-44EB-9060-05AD2F02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321C-4582-433B-B284-DC18980D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403B-94FB-457B-BD1A-284005F9F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533520"/>
            <a:ext cx="137160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447920" y="76176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6094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429000" y="990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05320" y="9144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13716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9144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914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47636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219320"/>
            <a:ext cx="137160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137160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1447560" y="121896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1219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3-07T10:16:01Z</dcterms:modified>
  <cp:revision>5</cp:revision>
  <dc:subject/>
  <dc:title>Présentation PowerPoint</dc:title>
</cp:coreProperties>
</file>