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BA7-BD63-4E0B-83B2-639BDEEE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9F2-3AF6-4038-9B78-96C259B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11B-7480-4172-B1DB-5E1D7BD5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047-C772-4EA4-9047-A0D39D7E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C10-004A-4BB6-8953-A80F637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DE7-85A1-40E6-B257-1BCC6BF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3C0-56C3-4801-ACA4-407822AA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570-8EF2-4B5E-AFB2-D68AEB11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497-CE45-4245-9EB8-95C516D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7E5-138F-4790-AAF6-892D89DE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080-62CD-4E75-91B1-725982E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56E-5BA5-4FD5-A64D-D103F91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4FDA-3026-4C86-B842-28779CF3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812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Soon to be 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8098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1-04-14T07:49:14Z</dcterms:modified>
  <cp:revision>8</cp:revision>
  <dc:subject/>
  <dc:title>Présentation PowerPoint</dc:title>
</cp:coreProperties>
</file>